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6BD-B39B-4E9E-A165-B1E06514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807-9616-4559-9DAA-73187D8C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39E-8D62-404E-884E-D62FB1B6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704-ED99-4B54-B7D2-E81F16FC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C6B6-54E3-412E-AE3C-A40D7DED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BCC6-234D-4558-B1D3-697C5D20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8B46-9039-43CD-B43A-AB7410D8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F589-F34F-4E91-A4F0-0A4F9D82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62E0-630E-4812-BFA9-8758A2D7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938F-0BDB-47F0-ADB7-0954F97A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39A4-69A5-4551-9E53-09DC2307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592-9301-46A0-819E-53B2B34C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0944-D202-4A73-B590-E8FAE638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B25C-6789-4546-AA99-7F573032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956E-7CC6-408B-9ABF-0FF142A6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2843-6444-4939-94C9-0FD3572B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1917-6B65-4855-B0C2-B945CE2A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4297-C4B2-4ADD-A8D9-3942BC28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9CCA-9401-4BEF-8A10-16CC48D6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39693-58B3-4FC9-8DC2-EF9E6428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5C2C-01CD-4B76-A51E-1FE599B1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B2AA-8829-4D06-A408-0ECE6F47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86A-1018-492A-B6F6-5059A551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5F6B8-4BAF-4850-8530-657A55AA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FCDF-485F-4A0B-A6EB-1AB7CEEA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358C-4A65-4DAD-8845-1AB336B2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9C131-AC09-435A-BCAF-F67AE7F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9199-ED39-4EF6-918C-43CD47B7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436A-FFE8-4C5D-BBC2-8E0C937A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722A-F6D1-4EF7-A133-C62818C5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5E92E-3758-4808-BFC4-3D2EE130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58D3-D01A-42C3-AC43-52713D39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8DDD-8930-4E4B-B1DD-656C8292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647-9DC7-41F0-997A-C9B131D8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79FB5-D690-4429-BB21-C73D0756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0A7D6-8F68-4004-A238-D714CE4D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9748-F188-44AF-B6C0-8C9AA17F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087A-6999-4BEC-A3CA-FFC1BC09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D3304-5557-4C1A-AACE-7A0CD63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4BBC-0809-45F8-A895-D22F243A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9959-ACA9-4B4F-9D79-1FE35648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B9C9A-6C15-463C-B533-DAA3AA63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5DBE8-A7EF-40B9-9772-DA34B5DC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8F67-3B47-4E85-AB03-793434AE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12D-EFC3-4F57-BEAA-78EB4A28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942E-231A-476F-90E5-ABAED8D0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B3AEA-3A22-4BE1-8F79-78ED421A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C604-52A6-4C97-954C-A5680B48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391D4-EEAE-4873-9548-06A4B8F0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A94CB-1128-427F-994E-6FF40EA2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77B95-888D-4F0E-AC2E-2A2CF9BD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5D4D6-91C4-48DA-A43B-E41C5C27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FE27F-F5F1-4828-9909-6F1BDCF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E538D-30EB-4648-8667-562744B3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7A14C-450D-4F57-9258-E5A102FE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E37-17BC-4740-B69D-F705E1A1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0FDD-4AA9-42C0-B8FA-2F90188A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BE794-FC83-4D34-944A-2089CA2E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E0A3B-099D-40A3-8BAE-6863B6C2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835D-541C-45D7-8391-C846459C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37588-CDAF-49DF-A623-E8E11891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2FAD-D2BC-4B17-8433-9D3C3E5C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2FC2F-EF54-4EEA-9A23-E16FD463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4D359-F36A-4FBA-89A2-91865D36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BD398-4BB4-46AF-822B-43509075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A355D-8293-40C2-87B0-C59D5FF3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1B5-6956-4E6F-BF15-2D37EEEC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9D65D-25B6-470E-9E7B-5110D6D9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F53F-B6DB-4074-83ED-E74632F0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676A0-8731-46F3-ABFE-E957C24F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42B26-2043-4053-AFEF-E377DE0D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470B-2A87-4CD4-A937-0B60556B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F1F42-EA1E-4AAA-8A6B-F42259AB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89D5C-CFD8-4361-9A94-DA7E7F1F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4A8EB-8D41-4302-B856-1DBDFC7F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D6BB0-65E0-40ED-8C7A-3F626E2F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20727-E009-49EA-A86C-9668E76C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D33-B7D9-4CC1-8578-D5ACB7BF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A409A-B96F-4C07-9230-4D901B11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6B221-486E-403D-BF34-158E59A3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14B46-67D1-4776-93E2-7DF58015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B9365-58BD-41F6-8B74-66875AD1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24BB7-7335-4EDD-9D26-744E02B1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B63-9E2F-4363-A586-3EA2DF0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20A7-56EF-42D9-96F0-069C1B902B8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E596-486B-4DA4-8CF7-44ABFF7D78D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182F-52A6-481F-A145-4543C65A797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7105-19A7-4B3F-A85B-B87B9B01C8F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B1C5-6E19-4C6C-9CCC-ADAD7A7BA86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CAED-7E09-4064-8664-AB0EFE65D3C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038C-7C23-433E-801D-94C325BB453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560520" y="974880"/>
            <a:ext cx="8175600" cy="42922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Gladys Martínez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AP Literatura  Avanzada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4 de Diciembre del 2008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12280"/>
            <a:ext cx="8305920" cy="29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1eeff"/>
                </a:solidFill>
                <a:latin typeface="Consolas"/>
              </a:rPr>
              <a:t>Quéjase de la suerte: insinúa su aversión a los vicios, y justifica su divertimiento a las Musas (“En perseguirme, Mundo, ¿qué interesas?”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3580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Métric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l soneto es una combinación de catorce versos, los cuales están estructurados en dos cuartetos seguidos por dos terceto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l esquema de la rima más general es ABBA, ABBA, CDC, DCD, aunque son posibles otros esquem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em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feminism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Crítica a la superficialidad de la socieda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intelect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ON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atíric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cusatori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Resumen del Sonet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Poema cuenta como Sor Juana responde al ataque  de la sociedad Mexicana de esa época. Es expresado lo difícil que es ser mujer en este espacio y este tiempo. En este soneto, Sor Juana se queja de la falta de comprensión de que es objeto, y defiende su pasión por la poesía, y su ardor por los estudi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Ambient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iglo XV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144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orbel"/>
              </a:rPr>
              <a:t>Sátira filosófica: arguye de inconsecuencia el gusto y la censura de los hombres que en las mujeres acusan lo que causan  (“Hombres necios que acusáis”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c1eeff"/>
                </a:solidFill>
                <a:uFillTx/>
                <a:latin typeface="Consolas"/>
              </a:rPr>
              <a:t>Métric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6094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erie de redondilla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(cuatro versos de ocho 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ílabas  con la rima  abba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ílabas: Ocho sílabas  en cada verso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Hombres necios que acusáis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a la mujer sin razón,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in ver que sois la ocasión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de lo mismo que culpáis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Rima:  Rima perfecta, con el esquema abb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Hombres necios que acusáis    a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a la mujer sin razón,                     b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in ver que sois la ocasión         b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de lo mismo que culpáis:            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Versos agudos: el verso agudo (termina con palabra aguda y el acento tónico cae en la última sílab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rbel"/>
              </a:rPr>
              <a:t>Rima asonant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DAT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Hablant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Hablante líric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udiencia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Hombres neci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d6ecff"/>
                </a:solidFill>
                <a:latin typeface="Corbel"/>
              </a:rPr>
              <a:t>Poesía : Hombres Necios que Acusá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d6ecff"/>
                </a:solidFill>
                <a:latin typeface="Corbel"/>
              </a:rPr>
              <a:t>Fecha de la poesía: 166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EM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La diferencia entre los roles sociales de los hombres y las muje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La injustic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xpectativas soci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machism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Feminism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9" descr=""/>
          <p:cNvPicPr/>
          <p:nvPr/>
        </p:nvPicPr>
        <p:blipFill>
          <a:blip r:embed="rId1"/>
          <a:stretch/>
        </p:blipFill>
        <p:spPr>
          <a:xfrm>
            <a:off x="0" y="228600"/>
            <a:ext cx="4576680" cy="5113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http://span3per1.files.wordpress.com/2008/04/sor-juana-retrato.gif"/>
          <p:cNvPicPr/>
          <p:nvPr/>
        </p:nvPicPr>
        <p:blipFill>
          <a:blip r:embed="rId2"/>
          <a:stretch/>
        </p:blipFill>
        <p:spPr>
          <a:xfrm>
            <a:off x="4876920" y="228600"/>
            <a:ext cx="3886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on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cusatori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asiona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Intelectual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RESUM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n el poema, la voz poética reprocha a los hombres su actitud ante las mujeres. Sor Juana satiriza las relaciones entre hombres y las mujeres, exponiendo a su burla la falta de lógica del hombre que acusa a la mujer del comportamiento que él mismo provoca en ell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Alejandro Soriano Vallés.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Aquella Fénix más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rara. Vida de Sor Juana Inés de la Cruz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.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México, Nueva Imagen, 200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Juana Inés dela Cruz, Sor.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Poesía lírica.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 Edición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José Carlos González Boixo. Madrid: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diciones Cátedra, 1992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dición digital a partir de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Anales de Literatura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Española,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 núm. 13 (1999), Alicante,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Universidad, Departamento de Literatura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spañola, pp. 85-105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Friedman, Edward, Valdivieso, L., y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Virgillo, Carmelo. 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  <a:ea typeface="Arial"/>
              </a:rPr>
              <a:t>Aproximaciones al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	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  <a:ea typeface="Arial"/>
              </a:rPr>
              <a:t>estudio de la literatura hispánica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. (2004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La Cruz, Juana I. "Sátira filosófica: arguye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inconsecuencia el gusto y la censura de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los hombres que en las mujeres acusan lo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que causan  (“Hombres necios que acusáis”)."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orbel"/>
              </a:rPr>
              <a:t>Abriendo Puertas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. Vol. 1. Evanston: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McDougal Littell Incorporated, 2003. 378-81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De La Cruz, Juana I. "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 Quéjase de la suerte: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insinúa su aversión a los vicios, y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justifica su divertimiento a las Musas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(“En perseguirme, Mundo, ¿qué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interesas?”)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." 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</a:rPr>
              <a:t>Abriendo Puertas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. Vol. 1.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vanston: McDougal Littell Incorporated,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2003. 377-78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c1eeff"/>
                </a:solidFill>
                <a:uFillTx/>
                <a:latin typeface="Consolas"/>
              </a:rPr>
              <a:t>¿Sor Juana Inés de la Cruz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295280"/>
            <a:ext cx="7772400" cy="518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Corbel"/>
              </a:rPr>
              <a:t>Juana Inés de Asbaje y Ramírez de Santillan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Nacida el 12 de noviembre de 1651, en el pueblo de San Miguel Nepantl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autodidacta, humanista, gran poeta mexican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hija de criolla Isabel Ramírez de Santillana y el vizcaíno Pedro Manuel de Asbaje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Inteligencia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corte virreinal : dama de la virreina Doña Leonor Carreto, Marquesa de Mancer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Convento de San José de Carmelitas Descalzas en el 14 de agosto 1667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Enclaustramiento vs. Matrimonio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dedicación al estudio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Murió: Ciudad de México,  1695- por una epidemia el 17 de abril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1eeff"/>
                </a:solidFill>
                <a:latin typeface="Consolas"/>
              </a:rPr>
              <a:t>Curiosidad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1eeff"/>
                </a:solidFill>
                <a:latin typeface="Corbel"/>
              </a:rPr>
              <a:t>aparece en los billetes mexicanos de alta denominació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areció en los mil pesos (con inflación terminaron volviéndose monedas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or Juana salió de circulación brevemente, para reaparecer en los billetes de dosciento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1eeff"/>
                </a:solidFill>
                <a:latin typeface="Consolas"/>
              </a:rPr>
              <a:t>Las obras po</a:t>
            </a:r>
            <a:r>
              <a:rPr b="0" lang="es-MX" sz="3600" spc="-1" strike="noStrike">
                <a:solidFill>
                  <a:srgbClr val="c1eeff"/>
                </a:solidFill>
                <a:latin typeface="Consolas"/>
                <a:ea typeface="Arial"/>
              </a:rPr>
              <a:t>éticas de Sor Juana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</a:rPr>
              <a:t>Inundaci</a:t>
            </a: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ón castálida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689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Segundo volumen de la obra de Sor Juana Inés de la Cruz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691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Fama y obra póstuma del Fénix de México, Décima Musa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700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6477120" y="4572000"/>
            <a:ext cx="213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MOVIMIENTO LITERARI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Barroco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ovimiento artístico y cultural extendido por toda Europa y que entraña una evolución de las ideas del Renacimiento, que supone cambios drásticos en la forma de pensar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renovación de técnicas y de estil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ezclando estrofas tradicionales con las nuevas, así cultivaron el terceto, el cuarteto, el soneto y la redondill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ASES DEL BARROC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anierismo (1520 - 1560): Se caracteriza por la desintegración del Renacimiento. Es un estilo de crisis, desproporcionado, con exceso de ornamentación, intelectualista. Es la primera fase del Barroco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Barroco (1620 - 1680): Es el estilo de la Contrarreforma. Se da una exageración de las características del manierismo sin proponer nuevas formas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Barroco tardío (1680 – 1700): Se caracteriza por un retorno al clasicismo que llevará al Neoclasicismo, es de nuevo un episodio de desintegración, en este caso de las formas barrocas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ENOMENO DEL BARROC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CULTERANISMO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Predomina la poesí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Renueva la sintaxis; las ideas no cambia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Originalidad de la palabr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Valores del renacimient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etáforas brillantes Góngora el mayor expedient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IGURA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ntítes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Metáfo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Retruécan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ostrof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Circunlocució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1:24:41Z</dcterms:created>
  <dc:creator>Gladys Mabel Martiez</dc:creator>
  <dc:description/>
  <dc:language>en-US</dc:language>
  <cp:lastModifiedBy>Gladys Mabel Martiez</cp:lastModifiedBy>
  <dcterms:modified xsi:type="dcterms:W3CDTF">2008-12-04T19:07:58Z</dcterms:modified>
  <cp:revision>64</cp:revision>
  <dc:subject/>
  <dc:title>Slide 1</dc:title>
</cp:coreProperties>
</file>